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A5E-8C66-48C6-8724-C55568FD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2FC-1432-4E52-B54D-08CF61FF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1F6-C684-422F-8F97-1178BE94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F2C-E511-484E-922D-4FF07C80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553-C4BC-49A0-A37B-40B12B6E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C3C-B50B-4360-82AA-2367FBE8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7C4-9EE3-43F8-9A31-211D107E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66F-4847-418C-96EC-AD4D84C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B72-13EE-4063-A9AA-2924D52B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A1A-9CC6-43FA-BA7A-D87B6F61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50A-4C42-4E7B-A1F2-FD5896FA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684-F24D-4D1C-B3D8-6D2FF269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1292-72FF-4C57-B6BA-0D48BD2DC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8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4 de dic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iste en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el DVD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matica en V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6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write the corrected paragraph in your note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QUIZ 1/2 SIGN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PROGRESS REPORT SIGNED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5:04:32Z</dcterms:created>
  <dc:creator>Helen Zumaeta</dc:creator>
  <dc:description/>
  <dc:language>en-US</dc:language>
  <cp:lastModifiedBy>Helen Zumaeta</cp:lastModifiedBy>
  <dcterms:modified xsi:type="dcterms:W3CDTF">2012-12-17T20:56:28Z</dcterms:modified>
  <cp:revision>3</cp:revision>
  <dc:subject/>
  <dc:title>Me llamo _________ Clase 8IM La fecha es el 14 de diciembre del 2012</dc:title>
</cp:coreProperties>
</file>